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acted Driving: The Growing Epide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2009 National Safety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EE1D-BE3E-4B1F-AB32-AF1DB8B4F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acted Driving: The Growing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9 National Safety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1912-6122-4C27-BD03-073035460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403-CD9D-49D8-9678-910580E0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533-2DFB-4877-B79C-F6E67540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5ED-94DB-4658-8E25-F86488DB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71F-C610-42F7-86AA-FAD63C0C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440-A81D-42F2-B3B3-5C570EA4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A0F-8232-4175-BCE9-0B186ED7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817-F7D9-496A-94F1-774F5B82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AAC-F9C8-4F98-A1CC-7A367287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B1D-DA6C-4EB0-8458-518DFD95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765F-BE5B-443E-B11B-264F4390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BBB-37B6-4FF4-B3D6-35B6C673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F4B-76D7-476D-A5FA-5E006FBB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7676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292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94E0-2471-4E91-9926-709E552CB3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Picture 12" descr="logo color"/>
          <p:cNvPicPr/>
          <p:nvPr/>
        </p:nvPicPr>
        <p:blipFill>
          <a:blip r:embed="rId2"/>
          <a:stretch/>
        </p:blipFill>
        <p:spPr>
          <a:xfrm>
            <a:off x="7618320" y="412920"/>
            <a:ext cx="1068480" cy="73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nsclogo65"/>
          <p:cNvPicPr/>
          <p:nvPr/>
        </p:nvPicPr>
        <p:blipFill>
          <a:blip r:embed="rId2"/>
          <a:stretch/>
        </p:blipFill>
        <p:spPr>
          <a:xfrm>
            <a:off x="7772400" y="609480"/>
            <a:ext cx="771480" cy="771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9AA8-341F-416B-8F7A-75B341CFDB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352680" y="6477120"/>
            <a:ext cx="28958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352680" y="6477120"/>
            <a:ext cx="2895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ell Phones &amp;</a:t>
            </a:r>
            <a:br>
              <a:rPr sz="4100"/>
            </a:b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Distracted Driving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56688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Growing Epidemic of Cell Phone Use While Driv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A65B-2AF6-4653-892A-E1682AA078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elf Assessme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46 to 50: Focused Driver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onsider others when you driv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onsciously drive to be safe and keep others sa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36 to 45: Common Driv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ttle more focus on safety and total control of your vehicle could help you and other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B992-75CC-4C88-BCA2-9F0868F28D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elf Assessme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6 to 35: Risky Driv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ltitask while driv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distracted and at risk for mistakes while driving in this ma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5 or less: Hazardous Driv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driving is placing you, your passengers, other drivers and pedestrians at risk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AD7B-3F69-4241-A01A-D018B9348D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CC000552"/>
          <p:cNvPicPr/>
          <p:nvPr/>
        </p:nvPicPr>
        <p:blipFill>
          <a:blip r:embed="rId1"/>
          <a:stretch/>
        </p:blipFill>
        <p:spPr>
          <a:xfrm>
            <a:off x="762120" y="1905120"/>
            <a:ext cx="2171520" cy="21715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How to Stay Saf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66520" y="1905120"/>
            <a:ext cx="579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can you do to reduce your risk of crashes and injurie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9D06-8355-4439-9C09-22658A140F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CC000552"/>
          <p:cNvPicPr/>
          <p:nvPr/>
        </p:nvPicPr>
        <p:blipFill>
          <a:blip r:embed="rId1"/>
          <a:stretch/>
        </p:blipFill>
        <p:spPr>
          <a:xfrm>
            <a:off x="762120" y="1905120"/>
            <a:ext cx="2171520" cy="2171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requently Asked Ques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66520" y="1905120"/>
            <a:ext cx="579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es cell phone use while driving cause traffic crashe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36EE-60F1-4C03-8E5F-CC05AE9B44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C000552"/>
          <p:cNvPicPr/>
          <p:nvPr/>
        </p:nvPicPr>
        <p:blipFill>
          <a:blip r:embed="rId1"/>
          <a:stretch/>
        </p:blipFill>
        <p:spPr>
          <a:xfrm>
            <a:off x="762120" y="1905120"/>
            <a:ext cx="2171520" cy="2171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requently Asked Ques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666520" y="1905120"/>
            <a:ext cx="579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it safe to use a hands-free cell phone (headset, speakerphone, or other device) while driving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04A8-5BCF-431F-8E48-C1DF23EC61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C000552"/>
          <p:cNvPicPr/>
          <p:nvPr/>
        </p:nvPicPr>
        <p:blipFill>
          <a:blip r:embed="rId1"/>
          <a:stretch/>
        </p:blipFill>
        <p:spPr>
          <a:xfrm>
            <a:off x="762120" y="1905120"/>
            <a:ext cx="2171520" cy="2171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requently Asked Ques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66520" y="1905120"/>
            <a:ext cx="579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alking on a cell phone any worse than having a conversation with a passenger in the car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62A5-013C-419B-877C-D31E4C2E8C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CC000552"/>
          <p:cNvPicPr/>
          <p:nvPr/>
        </p:nvPicPr>
        <p:blipFill>
          <a:blip r:embed="rId1"/>
          <a:stretch/>
        </p:blipFill>
        <p:spPr>
          <a:xfrm>
            <a:off x="762120" y="1905120"/>
            <a:ext cx="2171520" cy="21715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requently Asked Ques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66520" y="1905120"/>
            <a:ext cx="579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an emergency, should I use my cell phone while driving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1CAB-3FB7-49E9-A134-EC8E265650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C000552"/>
          <p:cNvPicPr/>
          <p:nvPr/>
        </p:nvPicPr>
        <p:blipFill>
          <a:blip r:embed="rId1"/>
          <a:stretch/>
        </p:blipFill>
        <p:spPr>
          <a:xfrm>
            <a:off x="762120" y="1905120"/>
            <a:ext cx="2171520" cy="21715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requently Asked Ques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66520" y="1905120"/>
            <a:ext cx="579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the studies say about the relative risk of cell phone use when compared to other activities like eating or drinking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0FDF-1B55-4676-A5C1-B6FA024BD2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ssumption 1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4343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ie is out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le.” Potentially distracting devices have invaded the driver’s domain so pervasively that attempts to control them now are impossible or ill-adv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56372170"/>
          <p:cNvPicPr/>
          <p:nvPr/>
        </p:nvPicPr>
        <p:blipFill>
          <a:blip r:embed="rId1"/>
          <a:stretch/>
        </p:blipFill>
        <p:spPr>
          <a:xfrm>
            <a:off x="5029200" y="2057400"/>
            <a:ext cx="3171960" cy="3171960"/>
          </a:xfrm>
          <a:prstGeom prst="rect">
            <a:avLst/>
          </a:prstGeom>
          <a:ln w="57240">
            <a:solidFill>
              <a:srgbClr val="3366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7EFD-A0F4-4B4B-8BB1-21F47D59A1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ssumption 2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ting fast food, applying cosmetics, and other in-car distractions also present risks, so why are we not worrying about them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200288282-001"/>
          <p:cNvPicPr/>
          <p:nvPr/>
        </p:nvPicPr>
        <p:blipFill>
          <a:blip r:embed="rId1"/>
          <a:stretch/>
        </p:blipFill>
        <p:spPr>
          <a:xfrm>
            <a:off x="4572000" y="2057400"/>
            <a:ext cx="3772080" cy="2824200"/>
          </a:xfrm>
          <a:prstGeom prst="rect">
            <a:avLst/>
          </a:prstGeom>
          <a:ln w="57240">
            <a:solidFill>
              <a:srgbClr val="3366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83F5-C5D5-4F98-81B2-79ABD85FD7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istracted Driving Cours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j0386497"/>
          <p:cNvPicPr/>
          <p:nvPr/>
        </p:nvPicPr>
        <p:blipFill>
          <a:blip r:embed="rId1"/>
          <a:stretch/>
        </p:blipFill>
        <p:spPr>
          <a:xfrm>
            <a:off x="4572000" y="2041560"/>
            <a:ext cx="3886200" cy="2773440"/>
          </a:xfrm>
          <a:prstGeom prst="rect">
            <a:avLst/>
          </a:prstGeom>
          <a:ln w="57240">
            <a:solidFill>
              <a:srgbClr val="3366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D32D-C5B6-4CB2-BC99-A5C8A759A0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ssumption 3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ands-free equipment lessens or eliminates driver distracti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200431197-001"/>
          <p:cNvPicPr/>
          <p:nvPr/>
        </p:nvPicPr>
        <p:blipFill>
          <a:blip r:embed="rId1"/>
          <a:stretch/>
        </p:blipFill>
        <p:spPr>
          <a:xfrm>
            <a:off x="3200400" y="3429000"/>
            <a:ext cx="2577960" cy="2577960"/>
          </a:xfrm>
          <a:prstGeom prst="rect">
            <a:avLst/>
          </a:prstGeom>
          <a:ln w="57240">
            <a:solidFill>
              <a:srgbClr val="3366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C73B-E920-4B17-9222-694899F846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ssumption 4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isting laws are adequate to deter drivers from the inappropriate use of distracting devic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j0408864"/>
          <p:cNvPicPr/>
          <p:nvPr/>
        </p:nvPicPr>
        <p:blipFill>
          <a:blip r:embed="rId1"/>
          <a:stretch/>
        </p:blipFill>
        <p:spPr>
          <a:xfrm>
            <a:off x="914400" y="2057400"/>
            <a:ext cx="3181320" cy="3181320"/>
          </a:xfrm>
          <a:prstGeom prst="rect">
            <a:avLst/>
          </a:prstGeom>
          <a:ln w="57240">
            <a:solidFill>
              <a:srgbClr val="3366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2E01-C90B-4FF3-A0BD-C501467603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ssumption 5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62520" y="1905120"/>
            <a:ext cx="4495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ell phones contribute to highway safety because they let people contact law enforcement and emergency services immediately, reducing response tim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j0387943"/>
          <p:cNvPicPr/>
          <p:nvPr/>
        </p:nvPicPr>
        <p:blipFill>
          <a:blip r:embed="rId1"/>
          <a:stretch/>
        </p:blipFill>
        <p:spPr>
          <a:xfrm>
            <a:off x="914400" y="2057400"/>
            <a:ext cx="2476440" cy="3468600"/>
          </a:xfrm>
          <a:prstGeom prst="rect">
            <a:avLst/>
          </a:prstGeom>
          <a:ln w="57240">
            <a:solidFill>
              <a:srgbClr val="336666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C3FB-9256-447F-BB5E-2FB03273E9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C000552"/>
          <p:cNvPicPr/>
          <p:nvPr/>
        </p:nvPicPr>
        <p:blipFill>
          <a:blip r:embed="rId1"/>
          <a:stretch/>
        </p:blipFill>
        <p:spPr>
          <a:xfrm>
            <a:off x="762120" y="1905120"/>
            <a:ext cx="2171520" cy="21715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tate Laws &amp; Municipal Ordinanc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6520" y="1905120"/>
            <a:ext cx="579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your state law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are laws of nearby states where you may driv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cities have passed ordinances in your stat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04B9-5265-4D87-ABFE-12DD421F93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urse Summar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e the term “distracted.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nderstand the risk of using cell phones while driving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tips to prevent distracted driving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in why using a cell phone while driving is a distrac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 your state laws regarding cell phone use and text messaging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05240" cy="3463920"/>
          </a:xfrm>
          <a:prstGeom prst="rect">
            <a:avLst/>
          </a:prstGeom>
          <a:ln w="57240">
            <a:solidFill>
              <a:srgbClr val="336666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C4FA-9433-46DF-9A6A-82779839CA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urse Objectiv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57600" y="1905120"/>
            <a:ext cx="4952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term “distracte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risk of using cell phones while dri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ips to prevent distracted dri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using a cell phone while driving is a di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your state laws regarding cell phone use and text mess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2505240" cy="3463920"/>
          </a:xfrm>
          <a:prstGeom prst="rect">
            <a:avLst/>
          </a:prstGeom>
          <a:ln w="57240">
            <a:solidFill>
              <a:srgbClr val="336666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168B-1724-47B8-9413-EF94DACAF1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finition: Distracte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962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ving the attention divide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ndered incapable of behaving, reacting, etc., in a normal mann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6120" y="1905120"/>
            <a:ext cx="377172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3657600" cy="2438280"/>
          </a:xfrm>
          <a:prstGeom prst="rect">
            <a:avLst/>
          </a:prstGeom>
          <a:ln w="57240">
            <a:solidFill>
              <a:srgbClr val="3366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9" name="Rectangle 9"/>
          <p:cNvSpPr/>
          <p:nvPr/>
        </p:nvSpPr>
        <p:spPr>
          <a:xfrm>
            <a:off x="762120" y="1951200"/>
            <a:ext cx="38098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-tract-ed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dĭ-strāk’-tĭd)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jecti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4D91-6630-4E29-A106-18A567B2F7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riving Distrac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91120" y="1905120"/>
            <a:ext cx="4419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ssenger-rela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hicle-rela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reless devi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mok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ydream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oking at distractions outside the vehic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al hygie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200288272-001"/>
          <p:cNvPicPr/>
          <p:nvPr/>
        </p:nvPicPr>
        <p:blipFill>
          <a:blip r:embed="rId1"/>
          <a:stretch/>
        </p:blipFill>
        <p:spPr>
          <a:xfrm>
            <a:off x="914400" y="2057400"/>
            <a:ext cx="2514600" cy="3462480"/>
          </a:xfrm>
          <a:prstGeom prst="rect">
            <a:avLst/>
          </a:prstGeom>
          <a:ln w="57240">
            <a:solidFill>
              <a:srgbClr val="3366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45BA-874B-4ED2-9357-7AD60C0460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riving Distrac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ree type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Eyes on ro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Mind on dr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nual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Hands on whe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AA010765"/>
          <p:cNvPicPr/>
          <p:nvPr/>
        </p:nvPicPr>
        <p:blipFill>
          <a:blip r:embed="rId1"/>
          <a:stretch/>
        </p:blipFill>
        <p:spPr>
          <a:xfrm>
            <a:off x="5029200" y="2057400"/>
            <a:ext cx="3467160" cy="2533680"/>
          </a:xfrm>
          <a:prstGeom prst="rect">
            <a:avLst/>
          </a:prstGeom>
          <a:ln w="57240">
            <a:solidFill>
              <a:srgbClr val="3366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082E-5DA2-4B6E-B818-B899FA89DD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isks of Distrac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80% of crash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5% of near-crash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ell phones No. 1 distra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7E1A-03B1-41AC-9023-0592C972CD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isks of Distrac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ubles rear-end collision ris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lows reaction ti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ss traffic signals, signs and ex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ss half the information in driving environment – “look” but not “see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creases traffic viol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creases risk of injury crash four tim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4"/>
          <p:cNvSpPr/>
          <p:nvPr/>
        </p:nvSpPr>
        <p:spPr>
          <a:xfrm>
            <a:off x="228600" y="6477120"/>
            <a:ext cx="990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-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5"/>
          <p:cNvSpPr/>
          <p:nvPr/>
        </p:nvSpPr>
        <p:spPr>
          <a:xfrm>
            <a:off x="3352680" y="647712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9 National Safety Counc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81532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A0CC-45A4-435E-8F97-01F807573E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rue or False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acted driv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form of  aggressive dr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200151885-002"/>
          <p:cNvPicPr/>
          <p:nvPr/>
        </p:nvPicPr>
        <p:blipFill>
          <a:blip r:embed="rId1"/>
          <a:stretch/>
        </p:blipFill>
        <p:spPr>
          <a:xfrm>
            <a:off x="914400" y="2057400"/>
            <a:ext cx="2778120" cy="3470400"/>
          </a:xfrm>
          <a:prstGeom prst="rect">
            <a:avLst/>
          </a:prstGeom>
          <a:ln w="57240">
            <a:solidFill>
              <a:srgbClr val="3366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22:34:27Z</dcterms:created>
  <dc:creator>Jim Solomon</dc:creator>
  <dc:description/>
  <dc:language>en-US</dc:language>
  <cp:lastModifiedBy>Kristy</cp:lastModifiedBy>
  <dcterms:modified xsi:type="dcterms:W3CDTF">2010-01-06T21:14:45Z</dcterms:modified>
  <cp:revision>124</cp:revision>
  <dc:subject/>
  <dc:title>National Safety Council DDC-6-TX</dc:title>
</cp:coreProperties>
</file>